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0C9A2-8028-4D18-8DCF-D92FCBDB7E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st learn about habit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 area ,Sand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areas, 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est, on l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quat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restr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bore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atural home or environment of an animal  or a  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Habita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learn about adapta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aptations are body features and habits that enable a living thing to live comfortably in its natural surroundings (habita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Eyelas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p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storing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ed Fe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p Sinking into the s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rotect from ground-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stop the s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tering the e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mel –Lives in 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ng arms and leg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help them sw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a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swing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lance their bodies. It al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them to pick 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make differ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nds to locate a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t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n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xygen is absorb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n dioxide comes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special gills to take oxygen from water for res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D57-643C-4B23-B4E0-D62F612E2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CA1E-B46F-466C-AA91-BF4BBA21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F73A-DD11-4682-B17C-8F5D3ECC7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9EA0-8ABD-495F-9900-167CFA282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659D-F9CA-455A-A42E-91D2C49E0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5EAC-50D3-4DA6-8AF2-0669267D0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C13F-045E-49A5-94A4-27E151CC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AAF0-0D3C-4F8E-B8DA-0645C165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8EC-FC06-42E8-B1F9-2873BE0D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152-1F49-4C55-9B48-581AC8B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4FCE-3959-452C-A37F-75CABF98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D903-781C-4DBE-AFB4-43315A2E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DDAF2-D1F1-410C-AFB6-6344B235FF7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3C2E-7F26-4CBB-833D-DAE809DDAB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HABITA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1722600" y="555480"/>
            <a:ext cx="1674720" cy="2143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6858000" y="571680"/>
            <a:ext cx="1914480" cy="174780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152280" y="27226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1773360" y="2895480"/>
            <a:ext cx="163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ry area ,Sand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9"/>
          <p:cNvSpPr/>
          <p:nvPr/>
        </p:nvSpPr>
        <p:spPr>
          <a:xfrm>
            <a:off x="5353560" y="28954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ld areas, Po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7456680" y="276696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n tr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3"/>
          <a:stretch/>
        </p:blipFill>
        <p:spPr>
          <a:xfrm>
            <a:off x="3692520" y="684360"/>
            <a:ext cx="1486080" cy="2009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5105520" y="861840"/>
            <a:ext cx="175248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5"/>
          <a:stretch/>
        </p:blipFill>
        <p:spPr>
          <a:xfrm>
            <a:off x="-30240" y="555480"/>
            <a:ext cx="1752840" cy="2143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14"/>
          <p:cNvSpPr/>
          <p:nvPr/>
        </p:nvSpPr>
        <p:spPr>
          <a:xfrm>
            <a:off x="3624840" y="2906640"/>
            <a:ext cx="16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est, on 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308880" y="396252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quat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2212920" y="396252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eser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4030560" y="3962520"/>
            <a:ext cx="116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5983200" y="396252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ol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1"/>
          <p:cNvSpPr/>
          <p:nvPr/>
        </p:nvSpPr>
        <p:spPr>
          <a:xfrm>
            <a:off x="7818480" y="3973680"/>
            <a:ext cx="10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rbore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1366920" y="5391000"/>
            <a:ext cx="60800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Calibri"/>
                <a:ea typeface="Arial"/>
              </a:rPr>
              <a:t>Habitat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 natural home or environment of an animal  or a  plan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-30240" y="22320"/>
            <a:ext cx="9097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Calibri"/>
                <a:ea typeface="Arial"/>
              </a:rPr>
              <a:t>What is a Habit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Нижний колонтитул 1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NOW LEARN ABOUT </a:t>
            </a:r>
            <a:r>
              <a:rPr b="1" lang="en-US" sz="4000" spc="-1" strike="noStrike">
                <a:solidFill>
                  <a:srgbClr val="ffc000"/>
                </a:solidFill>
                <a:latin typeface="Calibri"/>
              </a:rPr>
              <a:t>ADAPTA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Mea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aptations ar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body featur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and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abi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that enable a living thing to live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comfortab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in its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natural surrounding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habitat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Examples of the basic adaptations that help creatures surviv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pe of a bird's beak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number of fingers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lour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thickness or thinness of the fur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hape of the nose or e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181080" y="1000080"/>
            <a:ext cx="2190600" cy="2190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tretch/>
        </p:blipFill>
        <p:spPr>
          <a:xfrm>
            <a:off x="3005280" y="1407960"/>
            <a:ext cx="2828880" cy="36198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22880" y="3421080"/>
            <a:ext cx="156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wo Eyelash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6178320" y="1819440"/>
            <a:ext cx="19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um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or storing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3"/>
          <a:stretch/>
        </p:blipFill>
        <p:spPr>
          <a:xfrm>
            <a:off x="6576840" y="4343400"/>
            <a:ext cx="2559240" cy="2370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/>
          <p:cNvSpPr/>
          <p:nvPr/>
        </p:nvSpPr>
        <p:spPr>
          <a:xfrm>
            <a:off x="3562560" y="5527800"/>
            <a:ext cx="30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added Fee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top Sinking into the s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nd protect from ground-he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9" name="Straight Arrow Connector 7"/>
          <p:cNvCxnSpPr/>
          <p:nvPr/>
        </p:nvCxnSpPr>
        <p:spPr>
          <a:xfrm>
            <a:off x="2133360" y="2743200"/>
            <a:ext cx="1291320" cy="2404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0" name="Straight Arrow Connector 12"/>
          <p:cNvCxnSpPr/>
          <p:nvPr/>
        </p:nvCxnSpPr>
        <p:spPr>
          <a:xfrm flipV="1">
            <a:off x="1275840" y="3006360"/>
            <a:ext cx="1080" cy="488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1" name="Straight Arrow Connector 16"/>
          <p:cNvCxnSpPr/>
          <p:nvPr/>
        </p:nvCxnSpPr>
        <p:spPr>
          <a:xfrm flipH="1" flipV="1">
            <a:off x="5409360" y="1726560"/>
            <a:ext cx="762840" cy="369000"/>
          </a:xfrm>
          <a:prstGeom prst="straightConnector1">
            <a:avLst/>
          </a:prstGeom>
          <a:ln w="4140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2" name="Straight Arrow Connector 17"/>
          <p:cNvCxnSpPr/>
          <p:nvPr/>
        </p:nvCxnSpPr>
        <p:spPr>
          <a:xfrm flipV="1">
            <a:off x="4856040" y="4952160"/>
            <a:ext cx="210240" cy="57564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3" name="Straight Arrow Connector 20"/>
          <p:cNvCxnSpPr/>
          <p:nvPr/>
        </p:nvCxnSpPr>
        <p:spPr>
          <a:xfrm>
            <a:off x="5218200" y="4952520"/>
            <a:ext cx="1488240" cy="756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84" name="TextBox 24"/>
          <p:cNvSpPr/>
          <p:nvPr/>
        </p:nvSpPr>
        <p:spPr>
          <a:xfrm>
            <a:off x="539640" y="403848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stop the s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entering the ey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61920" y="7632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Camel –Lives in Deser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76520" y="990720"/>
            <a:ext cx="4419360" cy="4803480"/>
          </a:xfrm>
          <a:prstGeom prst="rect">
            <a:avLst/>
          </a:prstGeom>
          <a:ln w="0">
            <a:noFill/>
          </a:ln>
        </p:spPr>
      </p:pic>
      <p:cxnSp>
        <p:nvCxnSpPr>
          <p:cNvPr id="88" name="Straight Arrow Connector 4"/>
          <p:cNvCxnSpPr/>
          <p:nvPr/>
        </p:nvCxnSpPr>
        <p:spPr>
          <a:xfrm flipV="1">
            <a:off x="1447920" y="5355360"/>
            <a:ext cx="1087920" cy="74052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89" name="Straight Arrow Connector 5"/>
          <p:cNvCxnSpPr/>
          <p:nvPr/>
        </p:nvCxnSpPr>
        <p:spPr>
          <a:xfrm flipV="1">
            <a:off x="1676520" y="5344560"/>
            <a:ext cx="2015280" cy="9039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0" name="TextBox 6"/>
          <p:cNvSpPr/>
          <p:nvPr/>
        </p:nvSpPr>
        <p:spPr>
          <a:xfrm>
            <a:off x="626760" y="6248520"/>
            <a:ext cx="264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Long arms and leg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o help them s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6111720" y="2514600"/>
            <a:ext cx="2733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 ta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swing 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alance their bodies. It als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elps them to pick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Straight Arrow Connector 9"/>
          <p:cNvCxnSpPr/>
          <p:nvPr/>
        </p:nvCxnSpPr>
        <p:spPr>
          <a:xfrm flipH="1">
            <a:off x="4571280" y="2742840"/>
            <a:ext cx="1586520" cy="97236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3" name="Straight Arrow Connector 12"/>
          <p:cNvCxnSpPr/>
          <p:nvPr/>
        </p:nvCxnSpPr>
        <p:spPr>
          <a:xfrm>
            <a:off x="1066320" y="3962160"/>
            <a:ext cx="2194920" cy="10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4" name="TextBox 13"/>
          <p:cNvSpPr/>
          <p:nvPr/>
        </p:nvSpPr>
        <p:spPr>
          <a:xfrm>
            <a:off x="0" y="3122640"/>
            <a:ext cx="216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They make differ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sounds to locate 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reet each 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440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Monkey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Нижний колонтитул 1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1523880" y="1657440"/>
            <a:ext cx="4996080" cy="3543120"/>
          </a:xfrm>
          <a:prstGeom prst="rect">
            <a:avLst/>
          </a:prstGeom>
          <a:ln w="0">
            <a:noFill/>
          </a:ln>
        </p:spPr>
      </p:pic>
      <p:sp>
        <p:nvSpPr>
          <p:cNvPr id="98" name="TextBox 5"/>
          <p:cNvSpPr/>
          <p:nvPr/>
        </p:nvSpPr>
        <p:spPr>
          <a:xfrm>
            <a:off x="2519280" y="1295280"/>
            <a:ext cx="20354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Oxygen is absorb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9" name="Straight Arrow Connector 8"/>
          <p:cNvCxnSpPr/>
          <p:nvPr/>
        </p:nvCxnSpPr>
        <p:spPr>
          <a:xfrm>
            <a:off x="3335040" y="1581120"/>
            <a:ext cx="856440" cy="154368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9"/>
          <p:cNvSpPr/>
          <p:nvPr/>
        </p:nvSpPr>
        <p:spPr>
          <a:xfrm>
            <a:off x="6424560" y="4822920"/>
            <a:ext cx="26557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Arial"/>
              </a:rPr>
              <a:t>Carbon dioxide comes o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H="1" flipV="1">
            <a:off x="4876560" y="3885840"/>
            <a:ext cx="1542240" cy="1296000"/>
          </a:xfrm>
          <a:prstGeom prst="straightConnector1">
            <a:avLst/>
          </a:prstGeom>
          <a:ln w="316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2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  <a:ea typeface="Arial"/>
              </a:rPr>
              <a:t>Fish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1910160" y="5446800"/>
            <a:ext cx="564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ave special gills to take oxygen from water for respi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ижний колонтитул 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lepha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152280" y="1147680"/>
            <a:ext cx="8839440" cy="5666040"/>
          </a:xfrm>
          <a:prstGeom prst="rect">
            <a:avLst/>
          </a:prstGeom>
          <a:ln w="0">
            <a:noFill/>
          </a:ln>
        </p:spPr>
      </p:pic>
      <p:sp>
        <p:nvSpPr>
          <p:cNvPr id="108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http://www.exploringnature.org/graphics/adaptation_jpgs/polar%20bear.jpg"/>
          <p:cNvPicPr/>
          <p:nvPr/>
        </p:nvPicPr>
        <p:blipFill>
          <a:blip r:embed="rId1"/>
          <a:stretch/>
        </p:blipFill>
        <p:spPr>
          <a:xfrm>
            <a:off x="0" y="1143000"/>
            <a:ext cx="9067680" cy="50292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4320"/>
            <a:ext cx="91440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Polar B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6T00:47:27Z</dcterms:created>
  <dc:creator>makemegenius</dc:creator>
  <dc:description/>
  <dc:language>en-US</dc:language>
  <cp:lastModifiedBy>LEGION</cp:lastModifiedBy>
  <dcterms:modified xsi:type="dcterms:W3CDTF">2018-03-12T07:40:07Z</dcterms:modified>
  <cp:revision>30</cp:revision>
  <dc:subject/>
  <dc:title>PowerPoint Presentation</dc:title>
</cp:coreProperties>
</file>